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9DFD-502C-4C7A-BC16-B27E08962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8600" y="415080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F339-EA65-4C7E-8A42-DF271588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0052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DE62-6863-4BAA-BC46-E8C958A13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7916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3008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2860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7916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3008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4E43-6746-48EE-8D0D-9A28E9F19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B704-81E8-47D6-BA63-7A63A7DB2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49BB-2886-482D-9D8B-87214803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CF63-F66D-48C4-BB7C-F0D7BCEB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755F-9503-43F7-9ED8-43449D07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989F-BED0-4D3C-B598-29E9DF99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4920" y="152280"/>
            <a:ext cx="7543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EB20-2F03-428A-BC1C-1482CE50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6C9D-FAD3-461D-8800-CBBCC829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7A5D-6398-48C3-8F04-ACDEB201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0052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385C-979C-41B7-BD99-BD8FD01B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284F-1502-43FB-BEDB-F80F1AE6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28600" y="415080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CF99-4329-4D52-B22E-965DD997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0052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F0D9-6953-40F6-B40F-77043C46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7916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3008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22860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7916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3008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F5FB-BB0F-41A1-B9A2-059BAF3E4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FE65-B022-46E7-B71C-A9B716D2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11A4-4CC6-4811-9241-FE2B8BF7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D337-3452-4CD4-AB05-B45B1835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294920" y="152280"/>
            <a:ext cx="7543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AE8A-02E9-4D50-A696-8765648B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4627-A6E7-469D-9D1C-F387496A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052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99BE-402E-42FB-A7CB-D1ED69BF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4606-B38B-4634-94C8-6884B2D4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488880"/>
            <a:ext cx="438120" cy="47484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48888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b4e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14400"/>
            <a:ext cx="422280" cy="47484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4400" y="9144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b7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38080"/>
            <a:ext cx="56016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380880"/>
            <a:ext cx="31680" cy="10526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21896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b4eb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709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A040-F915-4CDA-8204-E7742C80B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8229600" y="6126120"/>
            <a:ext cx="900000" cy="73188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3"/>
          <a:stretch/>
        </p:blipFill>
        <p:spPr>
          <a:xfrm>
            <a:off x="7467480" y="6124680"/>
            <a:ext cx="762120" cy="73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51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76b7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b7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4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4b4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e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261B-A722-41F2-B7FF-9E515228867A}" type="slidenum">
              <a:rPr b="0" lang="en-US" sz="14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b4eb5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4709a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hyperlink" Target="http://iubio.bio.indiana.edu/daphnia/" TargetMode="External"/><Relationship Id="rId6" Type="http://schemas.openxmlformats.org/officeDocument/2006/relationships/hyperlink" Target="http://iubio.bio.indiana.edu/daphnia/" TargetMode="External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iubio.bio.indiana.edu/daphnia/" TargetMode="External"/><Relationship Id="rId3" Type="http://schemas.openxmlformats.org/officeDocument/2006/relationships/hyperlink" Target="http://iubio.bio.indiana.edu/daphnia/" TargetMode="External"/><Relationship Id="rId4" Type="http://schemas.openxmlformats.org/officeDocument/2006/relationships/hyperlink" Target="http://iubio.bio.indiana.edu/daphnia/" TargetMode="External"/><Relationship Id="rId5" Type="http://schemas.openxmlformats.org/officeDocument/2006/relationships/hyperlink" Target="http://iubio.bio.indiana.edu/daphnia/" TargetMode="External"/><Relationship Id="rId6" Type="http://schemas.openxmlformats.org/officeDocument/2006/relationships/hyperlink" Target="http://iubio.bio.indiana.edu/daphnia/" TargetMode="External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ubio.bio.indiana.edu/daphnia/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ubio.bio.indiana.edu/daphnia/" TargetMode="External"/><Relationship Id="rId2" Type="http://schemas.openxmlformats.org/officeDocument/2006/relationships/hyperlink" Target="http://iubio.bio.indiana.edu/daphnia/" TargetMode="External"/><Relationship Id="rId3" Type="http://schemas.openxmlformats.org/officeDocument/2006/relationships/hyperlink" Target="http://iubio.bio.indiana.edu/daphnia/" TargetMode="External"/><Relationship Id="rId4" Type="http://schemas.openxmlformats.org/officeDocument/2006/relationships/hyperlink" Target="http://iubio.bio.indiana.edu/daphnia/" TargetMode="External"/><Relationship Id="rId5" Type="http://schemas.openxmlformats.org/officeDocument/2006/relationships/hyperlink" Target="http://iubio.bio.indiana.edu/daphnia/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ubio.bio.indiana.edu/daphnia/" TargetMode="External"/><Relationship Id="rId2" Type="http://schemas.openxmlformats.org/officeDocument/2006/relationships/hyperlink" Target="http://iubio.bio.indiana.edu/daphnia/" TargetMode="External"/><Relationship Id="rId3" Type="http://schemas.openxmlformats.org/officeDocument/2006/relationships/hyperlink" Target="http://iubio.bio.indiana.edu/daphnia/" TargetMode="External"/><Relationship Id="rId4" Type="http://schemas.openxmlformats.org/officeDocument/2006/relationships/hyperlink" Target="http://iubio.bio.indiana.edu/daphnia/" TargetMode="External"/><Relationship Id="rId5" Type="http://schemas.openxmlformats.org/officeDocument/2006/relationships/hyperlink" Target="http://iubio.bio.indiana.edu/daphnia/" TargetMode="External"/><Relationship Id="rId6" Type="http://schemas.openxmlformats.org/officeDocument/2006/relationships/hyperlink" Target="http://iubio.bio.indiana.edu/daphnia/" TargetMode="External"/><Relationship Id="rId7" Type="http://schemas.openxmlformats.org/officeDocument/2006/relationships/hyperlink" Target="http://iubio.bio.indiana.edu/daphnia/" TargetMode="Externa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1066320"/>
            <a:ext cx="7238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Helvetica Neue"/>
              </a:rPr>
              <a:t>Argos</a:t>
            </a: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&amp; Genome Directories</a:t>
            </a: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pple Chancery"/>
              </a:rPr>
              <a:t>&amp; Lucegene (‘Lucy Jean’)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66"/>
                </a:solidFill>
                <a:latin typeface="Skia"/>
              </a:rPr>
              <a:t>A Replicable Genome infOrmation System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Skia"/>
              </a:rPr>
              <a:t>of Common Compon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43000" y="4343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MOD Meeting, Sept.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15000" y="5292720"/>
            <a:ext cx="2022480" cy="1488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990800" y="5788080"/>
            <a:ext cx="1819080" cy="563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371600" y="5711760"/>
            <a:ext cx="716040" cy="689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038480" y="5626080"/>
            <a:ext cx="898560" cy="927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910160" y="4876920"/>
            <a:ext cx="47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 Gilbert, </a:t>
            </a:r>
            <a:r>
              <a:rPr b="0" lang="en-US" sz="2400" spc="-1" strike="noStrike" u="sng">
                <a:solidFill>
                  <a:srgbClr val="c481cf"/>
                </a:solidFill>
                <a:uFillTx/>
                <a:latin typeface="Arial"/>
                <a:hlinkClick r:id="rId5"/>
              </a:rPr>
              <a:t>gilbertd</a:t>
            </a:r>
            <a:r>
              <a:rPr b="0" lang="en-US" sz="2400" spc="-1" strike="noStrike" u="sng">
                <a:solidFill>
                  <a:srgbClr val="c481cf"/>
                </a:solidFill>
                <a:uFillTx/>
                <a:latin typeface="Arial"/>
                <a:hlinkClick r:id="rId6"/>
              </a:rPr>
              <a:t>@indiana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Argos comparison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2680" y="1889280"/>
            <a:ext cx="849312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EMB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install instructions - not hard, but harder than auto-re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mBase, Grame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hat, MacOSX, other system package auto-upda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ata replication; mature; focused on system-level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us Grid package management, Pac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offers binary program replication; install on remote systems; more config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replication is immature (less useful than rsync, wget, ftp mirror) but includes director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5280" y="333000"/>
            <a:ext cx="715176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aphnia Example System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1720" y="1593720"/>
            <a:ext cx="819792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FleaBase -- proto-Daphnia genom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gi-b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Web programs(Per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Link to common, share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Site configurations for web,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Bulk data &amp; FTP site fo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b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Project databases: blast, lucene, my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c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Database ind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Program libra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Web structure and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omics, Sequences, Maps, Literature, Stocks, Docs,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s Public and Protected (project member only)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app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Web programs (Ja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s Search system, Secure web and ed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23440" cy="6400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45920" y="914400"/>
            <a:ext cx="4536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481cf"/>
                </a:solidFill>
                <a:uFillTx/>
                <a:latin typeface="Helvetica Neue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481cf"/>
                </a:solidFill>
                <a:uFillTx/>
                <a:latin typeface="Helvetica Neue"/>
                <a:hlinkClick r:id="rId3"/>
              </a:rPr>
              <a:t>iubio</a:t>
            </a:r>
            <a:r>
              <a:rPr b="0" lang="en-US" sz="2000" spc="-1" strike="noStrike" u="sng">
                <a:solidFill>
                  <a:srgbClr val="c481cf"/>
                </a:solidFill>
                <a:uFillTx/>
                <a:latin typeface="Helvetica Neue"/>
                <a:hlinkClick r:id="rId4"/>
              </a:rPr>
              <a:t>.bio.indiana.</a:t>
            </a:r>
            <a:r>
              <a:rPr b="0" lang="en-US" sz="2000" spc="-1" strike="noStrike" u="sng">
                <a:solidFill>
                  <a:srgbClr val="c481cf"/>
                </a:solidFill>
                <a:uFillTx/>
                <a:latin typeface="Helvetica Neue"/>
                <a:hlinkClick r:id="rId5"/>
              </a:rPr>
              <a:t>edu</a:t>
            </a:r>
            <a:r>
              <a:rPr b="0" lang="en-US" sz="2000" spc="-1" strike="noStrike" u="sng">
                <a:solidFill>
                  <a:srgbClr val="c481cf"/>
                </a:solidFill>
                <a:uFillTx/>
                <a:latin typeface="Helvetica Neue"/>
                <a:hlinkClick r:id="rId6"/>
              </a:rPr>
              <a:t>/daph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 rot="16200000">
            <a:off x="-2019240" y="3314520"/>
            <a:ext cx="5257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LAST  wFleaBas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90720" y="90360"/>
            <a:ext cx="800100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5280" y="239760"/>
            <a:ext cx="72295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Edit  wFleaBas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83944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15235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pple Chancery"/>
              </a:rPr>
              <a:t>Lucegene (‘Lucy Jean’)</a:t>
            </a:r>
            <a:br>
              <a:rPr sz="40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r Genome Information Search and Retrieva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164520" y="4421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nfo. Retrieval for Genom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 text search/retrieval tools tuned for data access, no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for a wide range of semi-structured and complex structured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functional match for textual data common in biology than numeric, table-oriented RDB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r to add new data (e.g. SRS parses 100s of existing bio-databan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048120" y="3429000"/>
          <a:ext cx="6095880" cy="286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429000"/>
                    <a:ext cx="60958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304920" y="3200400"/>
            <a:ext cx="26668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er by orders of magnitude at search of complex data (no table joins; data is extremel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n-norm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48640" y="3200400"/>
            <a:ext cx="284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osophila Genome Anno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S or GaDB relational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Lucene and LuceGen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2680" y="1676160"/>
            <a:ext cx="8493120" cy="45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cene open-source project at jakarta.apache.org/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text search features: booleans, phrases, word stemming, fuzzy and field range searches, relevance ra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able to Glimpse, Exite, WAIS, Isearch, ht/dig, Alta-vista, Google back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 Doug Cutting has written text search engines for Apple and Exc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ceGene ad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input adaptors for HTML; XML (e.g. MedLine); FlyBase flatfile; Biosequences (GenBank, EMBL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ic output formats for XML, HTML via XSLT, Text, Spread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ed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,000s of FlyBase Genes, References, Game and Chado XML anno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Genes gene summaries &amp; Daphnia Medline, Sequences, HTML doc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ceGene/Lucene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ge search improvements (inefficient, dies w/ large ran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s/joins among data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adaptors and work? (or rely on data source formatt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24280" y="1523880"/>
            <a:ext cx="41148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52480" y="152280"/>
            <a:ext cx="8291520" cy="65055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 rot="16200000">
            <a:off x="-2024280" y="3320280"/>
            <a:ext cx="5116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earch  wFleaBas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 rot="16200000">
            <a:off x="-2024280" y="3320280"/>
            <a:ext cx="5116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earch  wFleaBas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98360"/>
            <a:ext cx="810072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Focus on Genome Data Acces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211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cientists are data-mining to study 1000s of genes rather than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page scraping and bulk files not en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Internet search &amp; retrieval of genome objects distributed among many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, flexible client program model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for high volumes 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; &gt;1 GB siz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11430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Genome Data Directories</a:t>
            </a:r>
            <a:br>
              <a:rPr sz="44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r Data Grid and related Internet distributed search standar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726400" cy="50292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887440" y="1143000"/>
            <a:ext cx="282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Helvetica Neue"/>
              </a:rPr>
              <a:t>(SRS - Lion Bioscie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onstellation of Bio-Data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irectories of Genome Data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ories are a necessary step for bio gr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road and shallow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rectories federat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narrow and deep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o-Data Access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S, Sequence Retrieval System;  Entrez ;  AceDB; Genome relational databases (Ensembl, FlyBase, WormBase) ; IBM DiscoveryLink; BioDAS ; BioMo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ory services for data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er onto access tools for common query/retri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DAP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ture, efficient for high volumes, query distributed directories ; works well with bio-access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Service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messages over Web ; wide industry support , standards are in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irectory Aspec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on existing techn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for millions of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ies distributed across directo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existing and new data ac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client program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, common schema for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icate directories among bioinformatics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er-to-peer directories for collabo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authentication and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irectory Componen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4500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92200" y="49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irectory Standard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Grid Services Architechture (OG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AP based; query support for XML-SQL, Xpath, Xquer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ccess project: http://www.ogsa-dai.org.u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weight Directory Access (LD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ust system for distributed search and retrie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-centric, optimized for efficient read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, distributed and replicated in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 Sciences ID (LSID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tandard for bio-object naming, with LDAP and WebServices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y project web services reposi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irectory Tes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and test distributed access with LDAP and Web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481cf"/>
                </a:solidFill>
                <a:uFillTx/>
                <a:latin typeface="Arial"/>
                <a:hlinkClick r:id="rId1"/>
              </a:rPr>
              <a:t>S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ackend for efficient search/retrieval from GenBank, SwissProt/TrEMBL, LocusLink, Medline, many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&amp; fetch 20,000 to 1.2 million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DAP is ~10x faster than Web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in progress for IUBio, FlyBas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rcRect l="8183" t="11766" r="8183" b="11766"/>
          <a:stretch/>
        </p:blipFill>
        <p:spPr>
          <a:xfrm>
            <a:off x="533520" y="1295280"/>
            <a:ext cx="7848360" cy="5543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642080" y="2276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6464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878600" y="256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46880" y="165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19880" y="171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16600" y="1166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17560" y="255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8000" y="2427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86160" y="2370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irectory Tes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74400" y="1739880"/>
            <a:ext cx="8281800" cy="35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Web-Services and LDAP access working in testing form; not stable nor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-Data categorization, schema, and meta-data for directories nee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id (OGSA), OAI, other interfaces to be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2680" y="5105520"/>
            <a:ext cx="73526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rectory tests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481c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c481cf"/>
                </a:solidFill>
                <a:uFillTx/>
                <a:latin typeface="Arial"/>
                <a:hlinkClick r:id="rId2"/>
              </a:rPr>
              <a:t>iubio</a:t>
            </a:r>
            <a:r>
              <a:rPr b="0" lang="en-US" sz="2800" spc="-1" strike="noStrike" u="sng">
                <a:solidFill>
                  <a:srgbClr val="c481cf"/>
                </a:solidFill>
                <a:uFillTx/>
                <a:latin typeface="Arial"/>
                <a:hlinkClick r:id="rId3"/>
              </a:rPr>
              <a:t>.bio.indiana.edu/</a:t>
            </a:r>
            <a:r>
              <a:rPr b="0" lang="en-US" sz="2800" spc="-1" strike="noStrike" u="sng">
                <a:solidFill>
                  <a:srgbClr val="c481cf"/>
                </a:solidFill>
                <a:uFillTx/>
                <a:latin typeface="Arial"/>
                <a:hlinkClick r:id="rId4"/>
              </a:rPr>
              <a:t>biogrid</a:t>
            </a:r>
            <a:r>
              <a:rPr b="0" lang="en-US" sz="2800" spc="-1" strike="noStrike" u="sng">
                <a:solidFill>
                  <a:srgbClr val="c481cf"/>
                </a:solidFill>
                <a:uFillTx/>
                <a:latin typeface="Arial"/>
                <a:hlinkClick r:id="rId5"/>
              </a:rPr>
              <a:t>/director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irectory Issu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g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framework for distributing common components with implemented genome data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uceGe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RS,… are backends to search &amp; retrieve data objects efficiently from any flat-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ome Directory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ludes WebServices, GridServices, LDAP, OAI,…  Internet standard interfaces to search back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Three building block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80520" y="1599840"/>
            <a:ext cx="850428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install &amp; replication eff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common { fetch, compile, install, configure,…} loop for packages of software &amp;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tible with most GMOD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 to EnsEMBL, WormBase, other distributab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481cf"/>
                </a:solidFill>
                <a:uFillTx/>
                <a:latin typeface="Arial"/>
                <a:hlinkClick r:id="rId1"/>
              </a:rPr>
              <a:t>Reference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gmod.org/argos/</a:t>
            </a:r>
            <a:r>
              <a:rPr b="0" lang="en-US" sz="1800" spc="-1" strike="noStrike" u="sng">
                <a:solidFill>
                  <a:srgbClr val="c481cf"/>
                </a:solidFill>
                <a:uFillTx/>
                <a:latin typeface="Arial"/>
                <a:hlinkClick r:id="rId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481c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c481cf"/>
                </a:solidFill>
                <a:uFillTx/>
                <a:latin typeface="Arial"/>
                <a:hlinkClick r:id="rId4"/>
              </a:rPr>
              <a:t>eugenes</a:t>
            </a:r>
            <a:r>
              <a:rPr b="0" lang="en-US" sz="1800" spc="-1" strike="noStrike" u="sng">
                <a:solidFill>
                  <a:srgbClr val="c481cf"/>
                </a:solidFill>
                <a:uFillTx/>
                <a:latin typeface="Arial"/>
                <a:hlinkClick r:id="rId5"/>
              </a:rPr>
              <a:t>.org/argos</a:t>
            </a:r>
            <a:r>
              <a:rPr b="0" lang="en-US" sz="1800" spc="-1" strike="noStrike" u="sng">
                <a:solidFill>
                  <a:srgbClr val="c481cf"/>
                </a:solidFill>
                <a:uFillTx/>
                <a:latin typeface="Arial"/>
                <a:hlinkClick r:id="rId6"/>
              </a:rPr>
              <a:t> </a:t>
            </a:r>
            <a:r>
              <a:rPr b="0" lang="en-US" sz="1800" spc="-1" strike="noStrike" u="sng">
                <a:solidFill>
                  <a:srgbClr val="c481cf"/>
                </a:solidFill>
                <a:uFillTx/>
                <a:latin typeface="Arial"/>
                <a:hlinkClick r:id="rId7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http://flybase.net/flybase-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on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/ ; perl/ -- program libraries and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s/ -- major programs (BLAST, PostgreSQL, othe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/ -- OS executables of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phnia/, eugenes/, flybase/ --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mplemented organism genome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aurbase/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- sample testing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cs/  &amp; install/ -- Argos instructions and u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OT/  -- common directory of projects, each as virtual host web service in R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Argo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Argos common par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28480" y="1523880"/>
            <a:ext cx="807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on library, Ant builds, XML Tools,  Web Services (Axis), Lucene for “Google”-like sear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r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ommon library of BioPerl, GBrowse,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rv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che, Tomcat web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SQL,  PostgreSQL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ST (NCB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piled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owerpc-darwin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parc-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24280" y="1523880"/>
            <a:ext cx="41148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5280" y="294840"/>
            <a:ext cx="737568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Argos featur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enome &amp; IT tool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benefits of “best of breed” genome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parts are tested &amp; maintained by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 IT expertise (no compiles or system manag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Common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-perl for Apache web server (&amp; Perl run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GMOD tools (Gbrowse; Cmap;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5280" y="294840"/>
            <a:ext cx="737568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Argos featur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project pac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needs specify tool set (compare EnsEMBL all-in-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n look’n’feel web pages, contents,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with protected and public se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including collaborative editing, upd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pac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package config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integration of common &amp; project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5280" y="294840"/>
            <a:ext cx="737568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Argos featur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replication to any Unix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’ copy with rsync keeps servers up-to-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cluster/grid for high-volume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on common workstations, lapt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re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sync useless for Postgres updates; transac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click install &amp; docum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auto-update; need more post-updat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Argos advanced featur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min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enome Directory compon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fill need to search &amp; retrieve 1000s of ge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, computable, industry standards for distributed query &amp; retrieval of big dat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eb Services, Grid Services, LD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o update personal, lab databases with genome lin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Data m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20:38:43Z</dcterms:created>
  <dc:creator>don gilbert</dc:creator>
  <dc:description/>
  <dc:language>en-US</dc:language>
  <cp:lastModifiedBy>don gilbert</cp:lastModifiedBy>
  <cp:lastPrinted>2003-09-07T02:43:01Z</cp:lastPrinted>
  <dcterms:modified xsi:type="dcterms:W3CDTF">2003-09-13T19:46:49Z</dcterms:modified>
  <cp:revision>47</cp:revision>
  <dc:subject/>
  <dc:title>wFleaBase in ARGOS</dc:title>
</cp:coreProperties>
</file>